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292A-707B-4060-B388-F5FF1F273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0708-4DE3-47EF-95C1-7F6446AA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50B8-2323-4141-ABF9-C58DB3C2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0CE7-5560-44FC-A1D2-448451616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A9494-42C1-444B-A0EF-5C1D979BA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BC888-15C8-42AB-B390-0366D750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1CB7B-9124-4159-8C80-8A0FC97B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BADD7-2F88-4ECC-B6B3-969D5492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47CD6-9CF1-44BA-A683-DDDEE999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3CBA8-CE0E-44B0-9B5C-6AE376DC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807C7-9652-418E-8F2E-369AC541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3150-BA19-4462-BB05-9009854E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3B940-4EAF-4BF1-A9B8-B96456BD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8957A-DFB0-421C-8740-006816E8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4B844-E2EE-410A-9E22-71855DD8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2EFE5-E320-418A-BA39-9A0AB6AE5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50582-32A9-491E-97EC-7AC25280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65F9-5AB1-4836-8074-2576FDF1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59B9-1CB6-465C-BF71-CA60CCD2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51C3-C656-4973-816B-3CDE43C0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BADD-8709-4A59-A57E-0002F701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A0DF-5377-4F1B-9B2C-60EFBF92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EB55-A3A9-4AFD-8E4E-5417F7B7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7D42-0ED0-4B62-B6E8-A3728C36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A5F3-3D5E-44A8-A2D7-A8BBA087439D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FE9A-852B-4D7F-BD94-F5782D0AD5DB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t.wikipedia.org/wiki/Terra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cola Estadual Senador Filinto Müller Extensão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ndra e Paul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vimentos da Terr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Os </a:t>
            </a:r>
            <a:r>
              <a:rPr b="1" lang="pt-PT" sz="3200" spc="-1" strike="noStrike">
                <a:solidFill>
                  <a:srgbClr val="ffffff"/>
                </a:solidFill>
                <a:latin typeface="Tahoma"/>
              </a:rPr>
              <a:t>movimentos da </a:t>
            </a:r>
            <a:r>
              <a:rPr b="0" lang="pt-PT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Terra</a:t>
            </a: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 são os movimentos </a:t>
            </a:r>
            <a:r>
              <a:rPr b="1" lang="pt-PT" sz="3200" spc="-1" strike="noStrike">
                <a:solidFill>
                  <a:srgbClr val="ffffff"/>
                </a:solidFill>
                <a:latin typeface="Tahoma"/>
              </a:rPr>
              <a:t>simultâneos</a:t>
            </a: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 realizados pela Terra no espaço. Existem ao todo cinco movimentos principai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otação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ahoma"/>
              </a:rPr>
              <a:t>Rotação</a:t>
            </a: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 - A Terra gira em torno de si mesma, em torno de seu eixo imaginário. A duração da rotação é de 24 hora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anslação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ahoma"/>
              </a:rPr>
              <a:t>Translação</a:t>
            </a: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 - é o movimento que a Terra executa ao redor do Sol; leva um tempo total aproximado de 365 dias e 6 horas até que se complete um ano.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FIM ....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8:29:40Z</dcterms:created>
  <dc:creator>aluno</dc:creator>
  <dc:description/>
  <dc:language>en-US</dc:language>
  <cp:lastModifiedBy>aluno</cp:lastModifiedBy>
  <dcterms:modified xsi:type="dcterms:W3CDTF">2010-08-25T18:53:11Z</dcterms:modified>
  <cp:revision>3</cp:revision>
  <dc:subject/>
  <dc:title>Escola Estadual Senador Filinto Müller Extensão </dc:title>
</cp:coreProperties>
</file>